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621-FCF5-427C-AE4B-35EFFA12DB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4A5F-730C-417A-8622-A5FEA314D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36C-AC0C-4052-9085-31BCABBE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B2E-52DF-4817-B01A-DB3B1774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EF0-1D0F-401F-BA9A-60CBDBDB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053-F63C-4591-91E7-0F4FCDFD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0899-8270-484F-9EE9-9817EE9C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488D-84B2-4EA1-8A92-FA436140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D827-69F2-4131-86C2-438B87CB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E2AC-3FE5-4229-BEC7-CCF705CA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6F12-D461-4CA2-BD0C-7C46E945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5E5F-344F-48DE-AC92-7E592F26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F2E0-E6B5-4DB2-A173-69D58378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6F8-14ED-4CB5-B735-CC5D8FA8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77F6-F457-42CC-817A-13073E4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8961-B0D9-4F9C-A9F6-39B57808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869D-4531-48A4-AA20-79E0574A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92C-5132-4320-BD2D-2107762A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9058-74B9-46DA-B651-4D83162C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7796-855F-4C6F-895B-CD50B847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33017-9039-425A-BB15-D09A6A4B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476F-2E84-4EB7-AB87-2199ABD6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6361-88EF-4653-8ABF-40870009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EADF-9459-4C7B-8498-3F684E4D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75F-F641-4CAC-91A2-3A1C7109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21B3-791A-455C-9475-1EBA8143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7FEB-DB65-4EC5-B736-344A41A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11D0-1899-43BD-A16F-D4FE2232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0B30-C98A-4E62-911D-1B6A83FA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77C0-92D4-4C3B-AAD0-22105C81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5A2E-D88B-477A-83DC-27B0A11D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FD89-C0F8-4C40-BC3E-0497C208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B285-55CB-4695-9722-AAF2311D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4334-38C7-4CDE-B337-1546AC0D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64CEB-682C-434F-856E-26C4DE93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400-548A-4ADB-8D5A-B2F3A323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580D-8722-49D7-B87A-C998D56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5DE32-8257-49A9-8FC1-385FD855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9BF82-86CB-4DC4-906E-4FD4A9CB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FC44-4591-42D5-BD3D-8EAAA785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604F0-1E55-46E3-929C-711F411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90B0-6121-40AD-B1D9-3DC2815B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5518-A646-403F-9C64-CBDDEDEA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07B1-8F8F-4989-A5D9-8DB88111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EC36-3134-49DF-8790-D65A0886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5D8-E3FA-4F77-BEC8-DE3366E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506-814E-4A7E-8B39-CD38302C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41B-7C06-4845-807C-6F24346D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29F-EDBB-4351-8354-9F07B929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F60-4F5D-461C-A151-5D64336F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A740-B715-455E-994B-D737A818B93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78C8-E34F-4A38-933C-803B544748E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58B4-DFB4-4FAA-B062-02CC43E9CC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3C87-324B-4934-A0A0-C16EC06B151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gpi.ru/" TargetMode="External"/><Relationship Id="rId3" Type="http://schemas.openxmlformats.org/officeDocument/2006/relationships/hyperlink" Target="http://vkontakte.ru/priem_kgpi" TargetMode="External"/><Relationship Id="rId4" Type="http://schemas.openxmlformats.org/officeDocument/2006/relationships/hyperlink" Target="http://vkontakte.ru/priem_kgpi" TargetMode="External"/><Relationship Id="rId5" Type="http://schemas.openxmlformats.org/officeDocument/2006/relationships/hyperlink" Target="http://vkontakte.ru/priem_kgpi" TargetMode="External"/><Relationship Id="rId6" Type="http://schemas.openxmlformats.org/officeDocument/2006/relationships/hyperlink" Target="http://vkontakte.ru/priem_kgpi" TargetMode="External"/><Relationship Id="rId7" Type="http://schemas.openxmlformats.org/officeDocument/2006/relationships/hyperlink" Target="http://vkontakte.ru/priem_kgpi" TargetMode="Externa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244440" y="450720"/>
            <a:ext cx="8899560" cy="1663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SG1L4070"/>
          <p:cNvPicPr/>
          <p:nvPr/>
        </p:nvPicPr>
        <p:blipFill>
          <a:blip r:embed="rId3"/>
          <a:stretch/>
        </p:blipFill>
        <p:spPr>
          <a:xfrm>
            <a:off x="1547640" y="2349360"/>
            <a:ext cx="59058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000" y="2060640"/>
            <a:ext cx="8172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сихология образов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биология*, русский язык, математи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1872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сихолого - Педаг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258560" y="2492280"/>
            <a:ext cx="74898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Логопед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биология*, русский язык, математи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68360" y="12002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Специальное (дефектологическое)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71640" y="2491920"/>
            <a:ext cx="792144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Электроника, радиотехника, связ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математика*, русский язык, физи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68360" y="12002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рофессиональное обучение </a:t>
            </a:r>
            <a:br>
              <a:rPr sz="3200"/>
            </a:b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(по отрасля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01120" y="2276280"/>
            <a:ext cx="86425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правление в социокультурной сфе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обществознание*, русский язык, истори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ультура массовых коммуникац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(обществознание*, русский язык, история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68360" y="12002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Культурология (гуманитарные нау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68360" y="2491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офессиональное обучение (по отрасля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русский язык, математик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24000" y="692280"/>
            <a:ext cx="858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Программы среднего </a:t>
            </a:r>
            <a:br>
              <a:rPr sz="3600"/>
            </a:b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профессионального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134ee"/>
                </a:solidFill>
                <a:latin typeface="Times New Roman"/>
                <a:ea typeface="Times New Roman"/>
              </a:rPr>
              <a:t>Прием документов от поступающих на очную и заочную формы обучения начинается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18 июн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134ee"/>
                </a:solidFill>
                <a:latin typeface="Times New Roman"/>
                <a:ea typeface="Times New Roman"/>
              </a:rPr>
              <a:t>и заканчивается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5 июля 2013 год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4920" y="764640"/>
            <a:ext cx="85438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ем в высшее учебное заведение на первый курс проводится на конкурсной основе по заявлениям лиц: имеющим среднее (полное) общее или среднее профессиональное образование -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результатам единого государственного экзамена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(далее - ЕГЭ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зультаты всех вступительных испытаний, оцениваются по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обалльной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шкале. 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ная комиссия учитывает результаты ЕГЭ  2012 г. и/или 2013 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хема 3" descr=""/>
          <p:cNvPicPr/>
          <p:nvPr/>
        </p:nvPicPr>
        <p:blipFill>
          <a:blip r:embed="rId2"/>
          <a:stretch/>
        </p:blipFill>
        <p:spPr>
          <a:xfrm>
            <a:off x="1676520" y="1262160"/>
            <a:ext cx="7375320" cy="526716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8"/>
          <p:cNvSpPr/>
          <p:nvPr/>
        </p:nvSpPr>
        <p:spPr>
          <a:xfrm>
            <a:off x="144360" y="117360"/>
            <a:ext cx="3564000" cy="1440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еста с полн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озмещением затра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 об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510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Документы, </a:t>
            </a:r>
            <a:br>
              <a:rPr sz="3600"/>
            </a:b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еобходимые для поступления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явл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аспор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кумент о среднем (полном) общем или среднем   профессиональном образован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кументы, дающие право на льготы и преимуще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идетельства о результатах ЕГЭ за 2012 и/или 2013 г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26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Вне конкурса на все формы обучения при положительных оценках на вступительных испытаниях зачисляются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ети-сироты и дети, оставшиеся без попечения родителей, имеющие возраст до 18 лет, а также лица от 18 до 23 лет, которые получили статус детей-сирот или детей, оставшихся без попечения родителей, когда они находились в возрасте до 18 лет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нвалиды первой и второй групп, дети-инвалиды, которым согласно заключению учреждения Государственной службы медико-социальной экспертизы не противопоказано обучение в КГП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раждане в возрасте до двадцати лет, имеющие только одного родителя – инвалида 1 группы, если среднедушевой доход семьи ниже величины прожиточного минимума, установленного в соответствующем субъекте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раждане, проходившие в течение не менее трех лет военную службу по контракту в Вооруженных Силах Российской Федерации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8036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Миссия Коми государственного педагогического института </a:t>
            </a:r>
            <a:br>
              <a:rPr sz="32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184464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ключается в формировании, воспитании и развитии социально и профессионально компетентной личности на основе оптимального сочетания практикоориентированного педагогического образования  и фундаментальных знаний, в подготовке инновационно мыслящих и востребованных на рынке труда педагогических кадров, способных повысить интеллектуальный потенциал Республики Коми и Росс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Зачисление  проводится на основании результатов конкурса после завершения вступительных испытаний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упающий представляет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ригина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кумента государственного образца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 образован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68000" y="333360"/>
            <a:ext cx="828036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июля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вление и размещение на официальном сайте института и на информационном стенде приемной комисси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ка ранжированных по мере убывания количества набранных баллов (с их указанием) с выделением в них списков лиц, рекомендованных приемной комиссией к зачислению по каждому направлению подготовки (специальности) с учетом оставшегося количества бюджетных мест или мест по договорам с оплатой стоимости обучения (при их наличии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август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ершение представления оригинала документ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образца об образовании лицами, имеющими право на поступление без вступительных испытаний, имеющими право на прием вне конкурса, а также лицами, успешно прошедшими вступительные испытания при приеме на бюджетные мес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августа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дание приказа о зачислен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сентября лиц, имеющих право на поступление без вступительных испытаний, имеющих право на прием вне конкурса, а также лиц, успешно прошедших вступительные испытания при приеме, представивших оригинал документа государственного образца об образова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авгу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ая волна зачис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723960"/>
            <a:ext cx="633564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Контакты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7280" y="1483920"/>
            <a:ext cx="8856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лефон ответственного секретаря приемной комиссии </a:t>
            </a:r>
            <a:r>
              <a:rPr b="0" lang="ru-RU" sz="2600" spc="-1" strike="noStrike">
                <a:solidFill>
                  <a:srgbClr val="681e1e"/>
                </a:solidFill>
                <a:latin typeface="Times New Roman"/>
                <a:ea typeface="Times New Roman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 (212) 21-57-8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платная горячая линия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-800-351-15-5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/>
              </a:rPr>
              <a:t>www.kgpi.ru</a:t>
            </a:r>
            <a:r>
              <a:rPr b="1" lang="ru-RU" sz="3200" spc="-1" strike="noStrike">
                <a:solidFill>
                  <a:srgbClr val="4134ee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5"/>
              </a:rPr>
              <a:t>vkontakte.ru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7"/>
              </a:rPr>
              <a:t>priem_kgp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16000" y="4724280"/>
            <a:ext cx="698328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ОСТУП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24000" y="620280"/>
            <a:ext cx="5184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День открытых двере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стои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декабря 2012 г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:00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 адресу: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стическая 25, актовый за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090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е профессиональной деятельности выпускников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00000" y="2349360"/>
            <a:ext cx="7391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подавательска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рганизационно-управленческа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учно-методическа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ектна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Зарубежные вузы-партнер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ниверситет Будо (Норвег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ниверситет Гранады (Испан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ниверситет Версаля (Франц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альмениа центр г. Хельсинки (Финлянд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ниверситет Арк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рмингтонский Университет (СШ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88880" y="836280"/>
            <a:ext cx="86551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Совместные образовательные программы и моду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71280" y="2060280"/>
            <a:ext cx="739116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Экологический туризм и агротуриз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неджмент туриз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полярное регионовед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ультурная инженер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разование поликультурного обще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Зарубежное регионовед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аркетинг народных ремесе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Условия обучения и прожи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 современных учебных корп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5 общежит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вухэтажная столов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портивный клу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ционный центр (W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-Fi, интернет бесплатн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центр досуга и творче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гробиостан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уристический клу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олонтерское движ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ционно - образовательный центр «Русский музей: виртуальный филиал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Центр французской культуры при Посольстве Франции в Росс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4920" y="1844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тика и Математ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математика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тика и Физ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физик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География и Эколог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географи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Безопасность жизнедеятельности и Физическая куль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общая физическая подготовка (тест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763640" y="1187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едаг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184428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1e1e"/>
                </a:solidFill>
                <a:latin typeface="Times New Roman"/>
                <a:ea typeface="Times New Roman"/>
              </a:rPr>
              <a:t>Русский язык и Литера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1e1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литератур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илологическое образование и Образование в области иностранных язы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иностранный язы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ультурологическое образование и Обществоведческое образ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история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ехнология и Эконом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математик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3640" y="1187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едаг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68360" y="191592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нглийский язык и Французский язы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иностранный язы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нглийский язык и Немецкий язы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иностранный язы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чальное образование и Дошкольное образ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математик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чальное образование и Родной язык и литера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обществознание, русский язык, коми язык (изложение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763640" y="1187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7fb"/>
                </a:solidFill>
                <a:latin typeface="Times New Roman"/>
              </a:rPr>
              <a:t>Педаг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24000" y="530280"/>
            <a:ext cx="858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1688"/>
                </a:solidFill>
                <a:latin typeface="Times New Roman"/>
                <a:ea typeface="Times New Roman"/>
              </a:rPr>
              <a:t>Направления подготовки и проф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7:36Z</dcterms:created>
  <dc:creator>Лариса</dc:creator>
  <dc:description/>
  <dc:language>en-US</dc:language>
  <cp:lastModifiedBy>1111111</cp:lastModifiedBy>
  <dcterms:modified xsi:type="dcterms:W3CDTF">2012-12-07T03:06:52Z</dcterms:modified>
  <cp:revision>32</cp:revision>
  <dc:subject/>
  <dc:title>КОМИ ГОСУДАРСТВЕННЫЙ ПЕДАГОГИЧЕСКИЙ ИНСТИТУ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